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003-5254-4106-843E-221EB603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D22-4C84-43AF-9FA1-6641ED8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A42-412D-4732-AC97-AF178F50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DB3-7FDA-402B-B36D-E44FC80B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BF1-F54A-4AB2-BE63-B62D26B0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3DD1-986E-4AC8-A51A-43F4B51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E9D2-81D7-471A-8AA6-B1BEFCBB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F2B8-5CF3-44B5-8925-85BD1E9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97E2-34D8-43D2-B44E-C5179A0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3812-62EA-44F6-A9F7-9002860A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CB1-232A-432E-BCC8-2D36A03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289-4019-4AF3-9241-BDE9F7A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532-01C0-47B4-B3E1-B1D55E1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0385-C894-48B0-847A-CA482F8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EBED-CAA0-4F68-8CB6-DAE6F7D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D824-B47D-443C-A921-E35B29A9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3DF-A876-46A9-9579-513F6B44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049-6B38-44A5-8060-8C82008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BF2-1751-4ACC-9295-80354286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889-6F98-41D3-9AD6-91E9EF1E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820-C823-4C5B-830C-DFFCF3AE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EF5-2E48-4E5A-AD71-818BA1F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CE0-4B40-4336-A6E8-B3E0490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A19-0832-4400-B615-51D0BFF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686F-D263-4913-81DF-BCC090A95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99C-A0B3-4C79-946A-1B627CD2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myddnetwork.com/clothing-shoes-accessories/wp-content/uploads/fall-winter-fashion-latest-trends-checked-clothes-and-chic-skirts.jpg&amp;imgrefurl=http://efabric.biz/blog/%3Fp%3D97&amp;usg=__zwqu-RFml7vt4Sd1jebcczKH5Wc=&amp;h=345&amp;w=440&amp;sz=52&amp;hl=en&amp;start=20&amp;zoom=1&amp;itbs=1&amp;tbnid=n46-O0jXNQ1dbM:&amp;tbnh=100&amp;tbnw=127&amp;prev=/images%3Fq%3Ddesigner%2Bclothing%26hl%3Den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www.ilacadworldretail.com/BO/data/logos_cadenas/logo_tesco_ELH.jpg&amp;imgrefurl=http://www.ilacadworldretail.com/&amp;usg=__pcBTj0IQIqSVubC-vjCSGCxuN_o=&amp;h=395&amp;w=800&amp;sz=30&amp;hl=en&amp;start=1&amp;zoom=1&amp;itbs=1&amp;tbnid=r2i1jQZVoui_WM:&amp;tbnh=71&amp;tbnw=143&amp;prev=/images%3Fq%3Dtesco%26hl%3Den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imgres?imgurl=http://www.12news.us/wp-content/uploads/2010/09/Grandparents-Day-2010.jpg&amp;imgrefurl=http://www.12news.us/grandparents-day-2010.html&amp;usg=__6YDzuO7vn1At8ncOZwtfxJSugK8=&amp;h=313&amp;w=400&amp;sz=47&amp;hl=en&amp;start=1&amp;zoom=1&amp;itbs=1&amp;tbnid=ZknjEGHqso5XPM:&amp;tbnh=97&amp;tbnw=124&amp;prev=/images%3Fq%3Dgrandparents%2Bday%26hl%3Den%26gbv%3D2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imgres?imgurl=http://www.grayandsons.net/wp-content/uploads/2010/06/engagement-ring.jpg&amp;imgrefurl=http://www.grayandsons.net/diamond-engagement-rings/&amp;usg=__9vn-Oga1M2HUjdz8JuMXtXVhIjs=&amp;h=300&amp;w=300&amp;sz=25&amp;hl=en&amp;start=2&amp;zoom=1&amp;itbs=1&amp;tbnid=WgkTWwTsHh5SoM:&amp;tbnh=116&amp;tbnw=116&amp;prev=/images%3Fq%3Ddiamond%2Bengagement%2Brings%26hl%3Den%26gbv%3D2%26tbs%3Disch: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amiright.com/album-covers/images/album-Various-Artists-Pretty-Woman-Soundtrack.jpg&amp;imgrefurl=http://www.amiright.com/album-covers/pretty-woman-soundtrack-parodies/&amp;usg=__X7PadWymbFmtVZgWEz-uZAQibWw=&amp;h=300&amp;w=301&amp;sz=22&amp;hl=en&amp;start=2&amp;zoom=1&amp;itbs=1&amp;tbnid=56Hm_tt5H-bEwM:&amp;tbnh=116&amp;tbnw=116&amp;prev=/images%3Fq%3Dpretty%2Bwoman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.uk/imgres?imgurl=http://www.politablog.com/wp-content/uploads/communism_party.jpg&amp;imgrefurl=http://www.politablog.com/miscellaneous/on-revolution/&amp;usg=__yRiAoFmB-Fww3rWuLUuq8ZFWeXc=&amp;h=600&amp;w=800&amp;sz=270&amp;hl=en&amp;start=171&amp;zoom=1&amp;itbs=1&amp;tbnid=jXzHXyJec58a4M:&amp;tbnh=107&amp;tbnw=143&amp;prev=/images%3Fq%3Dcommunism%26start%3D160%26hl%3Den%26sa%3DN%26gbv%3D2%26ndsp%3D20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theflagman.co.uk/images/P3070110.JPG&amp;imgrefurl=http://www.sodahead.com/living/do-you-display-a-flag-on-or-near-your-home/question-89428/&amp;usg=__Wcq7QO2NaQ_DVjif5jc0hoRBoB4=&amp;h=480&amp;w=640&amp;sz=141&amp;hl=en&amp;start=38&amp;zoom=1&amp;itbs=1&amp;tbnid=lBYGc8GQ_EyuuM:&amp;tbnh=103&amp;tbnw=137&amp;prev=/images%3Fq%3Dpeople%2Bhanging%2Bflags%2Bfrom%2Btheir%2Bhome%26start%3D20%26hl%3Den%26sa%3DN%26gbv%3D2%26ndsp%3D20%26tbs%3Disch: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.uk/imgres?imgurl=http://www.countryliving.com/cm/countryliving/images/CLX0706HOM001-de.jpg&amp;imgrefurl=http://www.countryliving.com/homes/makeovers/beach-house-makeover-0706&amp;usg=__3s068icV_rCCNIGgzdwMXBlzLhY=&amp;h=460&amp;w=360&amp;sz=63&amp;hl=en&amp;start=4&amp;zoom=1&amp;itbs=1&amp;tbnid=fPpMt_uRfye1-M:&amp;tbnh=128&amp;tbnw=100&amp;prev=/images%3Fq%3DAmerican%2Bflag%2Bhouse%26hl%3Den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.uk/imgres?imgurl=http://c.complex.com/blogs/wp-content/uploads/2008/09/abdul-pic.jpg&amp;imgrefurl=http://www.complex.com/blogs/2008/09/18/how-to-diss-the-national-anthem/&amp;usg=__XOebbXF1fMGFquFUGbC8bzSruoQ=&amp;h=299&amp;w=480&amp;sz=38&amp;hl=en&amp;start=7&amp;zoom=1&amp;itbs=1&amp;tbnid=gf4qYjp7P0ivrM:&amp;tbnh=80&amp;tbnw=129&amp;prev=/images%3Fq%3Dstand%2Bfor%2Bthe%2Bnational%2Banthem%26hl%3Den%26gbv%3D2%26tbs%3D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.uk/imgres?imgurl=http://news.bbcimg.co.uk/media/images/48061000/jpg/_48061975__799804_twoflags150-1.jpg&amp;imgrefurl=http://www.bbc.co.uk/news/10302040&amp;usg=__JFSLia6IbfD5FUVbbUi9i0Ecqpc=&amp;h=300&amp;w=220&amp;sz=13&amp;hl=en&amp;start=37&amp;zoom=1&amp;itbs=1&amp;tbnid=QO-q0r-laRQ9jM:&amp;tbnh=116&amp;tbnw=85&amp;prev=/images%3Fq%3Dnorthern%2Bireland%2Bflags%2Bon%2Bhouses%26start%3D20%26hl%3Den%26sa%3DN%26gbv%3D2%26ndsp%3D20%26tbs%3Disch: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arxism and the Media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360" y="2924280"/>
            <a:ext cx="5410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evel Media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08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92360" y="2637000"/>
            <a:ext cx="5616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day behaviours that keep corporations in pow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wearing designer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shopping at chains instead of local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hools serving fast food in cafe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omen displaying huge diamond engagement 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celebrating days that have been manufactured by Hallmark, like Grandparent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6280"/>
            <a:ext cx="2219040" cy="174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692280"/>
            <a:ext cx="230328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5157720"/>
            <a:ext cx="1886040" cy="147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930920"/>
            <a:ext cx="1403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3200" y="2560680"/>
            <a:ext cx="76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day behaviours that keep patriarchy in pow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omen taking their husbands' last n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athers "giving away" their daughters during wedding cerem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use of words such as "man" as gender neu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4437000"/>
            <a:ext cx="2352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omsk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gues that popular culture can be used to divert people’s attention from real issues such as their conditions of employment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only the intellectual and educated classes in society, largely the professional classes, who must be persuaded to agree with the ideological values of the ruling elit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440480" y="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omsk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gues that the media manipulates populations to prevent them rebelling against the powerful or dominant class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one through ‘manufacturing consent’ – by filtering available information through the media and therefore controlling the audience’s ideas and though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440480" y="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ifestyle Televi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rgued that these programmes involve the retraining of members of the lower or lower middle class into the values, ideals and tastes of the bourgeois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f the experts on these programmes (Nigella Lawson, Trinny and Susannah) are clearly defined by accent, background and demeanour as members of the upper middl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Robbie argued that the denouncement of taste and behaviour of participants that is often central to these programmes, is a form of symbolic viol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arly episodes of ‘What Not to Wear’, Trinny and Susannah destroyed participants clothes by tearing them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lso humiliated participants by criticising their clothing style in front of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nts were often reduced to t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1880" y="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etty Wom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xist might see the film in terms of what it tells us about class and money in modern Ame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t's all about the money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way for Vivian to escape from her life of prostitution is to be rescued by a man with enough money to fulfil her dream of being the princess at the top of 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ian is only offered two choices - to either carry on as a prostitute or to become Edward’s lover and in effect, a capitalist hersel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tuation within the film illustrates a typical Marxist's comment on the worl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m limits peoples choices, forcing them into situations where they must either do a job that they do not want to do, or force other people into things they don't want to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riticisms of Marxis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assumes the audience is passive and easily manipulated by media produc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close examination of many media texts suggests the texts are POLYSEMIC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ther than having one clear message that supports dominant values and ideology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 meanings are contradictor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***Key Terms***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37717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es the importance for people in a society to be free to create wealth by setting up and running their own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elie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s that capitalism exploits the labour of th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es that the state should own and control wealth creation and distribute it fairly among the population as a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854360" cy="1917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89000"/>
            <a:ext cx="17222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writings of a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philosopher – KARL MAR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writings were a response to the extremes of poverty and exploitation he witnessed in the years after the British Industrial Rev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argued that there were divisions and tensions between two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LETARIAT – workers who have to sell their labour to surv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OURGEOISIE – own a range of different types of capital (wealth, factories, shares or propert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Communist Manifest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ers of all lands unite, you have nothing to lose but your chains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1679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emporary society, people following a Marxist world view sugge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BOURGEOISIE includes a middle class who (although they do not own capital) identify and serve the interests of those wh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capitalism, the bourgeoisie dominates and exploits the proletariat in pursuit of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xists are concerned with how and why the mass of the population accept a system they see as unfair and exploi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 in media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rx’s ideas have been applied to media in contemporary society to suggest that the view of the wor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onstruct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most mainstream media contributes to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ersuading the proletariat to accept capitalism as natural and inevitab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hilst simultaneously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distracting them from complaining about exploita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1353960" cy="17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24360" y="4437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onio GRAMS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13372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d and used the concept of HEG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407664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r culture contributes to the manufacturing of consent for bourgeoisie power within capitalist socie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65300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gemony can also be applied to the power relations found in gender, sexuality and 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357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people are influenced into accepting the dominance of a power e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844640"/>
            <a:ext cx="302400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elite is able to rule because the rest of the population allow it to do 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620640"/>
            <a:ext cx="4824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ological role of the media is to persuade us that it is in our best interest to accept the dominance of this e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57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2708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89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347640" y="414972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347640" y="242064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3573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egemon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We all live in societies where there are power structur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ccording to Gramsci's theory of hegemony, these systems of power cannot be maintained by force alon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People have to do things, willingly and happily, in their everyday lives that keep the powerful people on top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63640" y="2421000"/>
            <a:ext cx="554508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day behaviours that keep governments in pow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hanging flags from their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People rising and removing their hats when the national anthem is 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People celebrating a country's independence day with parades and pic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620640"/>
            <a:ext cx="1808280" cy="135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4149720"/>
            <a:ext cx="177012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620640"/>
            <a:ext cx="2094120" cy="129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508640"/>
            <a:ext cx="1457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3:55:59Z</dcterms:created>
  <dc:creator>gbrolly940</dc:creator>
  <dc:description/>
  <dc:language>en-US</dc:language>
  <cp:lastModifiedBy>gbrolly940</cp:lastModifiedBy>
  <dcterms:modified xsi:type="dcterms:W3CDTF">2010-10-12T13:59:52Z</dcterms:modified>
  <cp:revision>18</cp:revision>
  <dc:subject/>
  <dc:title>Marxism and the Media</dc:title>
</cp:coreProperties>
</file>